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D7496-1424-4B73-92E5-075E7C46FF88}" type="slidenum">
              <a:rPr b="0" lang="ms-MY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Ei. ARB are more expensive and no evidence that ARB is superior than AC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 to recommendation 6 page 13 of CKD CP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982A1-AF1A-4632-83F0-FFFB3FA59ABE}" type="slidenum">
              <a:rPr b="0" lang="ms-MY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202-6D8A-4AD7-B5C8-ADA44AD6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8CD-6CA4-47DE-9A43-6F65A3D1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37F-41A9-4DA9-91AB-DFCBAA7E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A15-B1F2-4C4F-A29D-B483D3EB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30E3-C06F-4A42-93C8-3B9F86DD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B0C6-F9A4-4BFD-AFFF-C8FFAEEC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D51B-2FA9-4656-805C-4142990D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08BA-2629-4F7C-83C4-B44EA759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D741-AF77-4F6F-9B05-65AAC48C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1633-92A6-4C03-92B6-026AD6DC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0157-16E6-4E49-8828-072F8A9C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ED33-018C-482B-932E-9E7F91E5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EB43-C760-42A3-9829-5AF977CD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B8B7-888B-4667-91C3-990D0B76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4252-3613-45F8-AB36-4E0F64A5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F2C3-D3A5-43FE-83DE-89966E6F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4288-28CD-46A9-9201-09013C229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64E9-81F3-4577-8EA2-18E367924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8AA7D-37A1-4B1A-BBDC-831CC162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EEE82-67AC-460F-B867-180C4036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136F1-94D2-4FA1-91DE-6378F43C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C29F3-6CB5-4A13-8D50-DA59434D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4836-7621-4219-9EBA-2C88DFF1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DDE0-2437-4264-B5DA-C7B930BE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30FDB-22D3-4FD3-861A-CD428ABC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CDCBF-4CD3-437D-B0D9-A35CCCC4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5206B-40D2-4D0D-A48B-010FDD8C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7B556-CBDB-4C39-9054-2645F4EA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B6ED2-76A3-4B0E-B636-04F39808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D315-2832-4531-AF69-63935E967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73FC-9462-47D1-93A5-C237C16B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5B02C-18DA-4273-9F66-2F1A0D1A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71BEB-2B7E-40DF-AE82-32579F01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A309-327F-4275-9C6F-34B1E604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301FF-E692-4989-96CC-BBDA7AF1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F0EF2-C95C-46AF-9860-CA97EF03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81BA8-D793-411A-BF68-55AAE22B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1715-2A26-437C-94A7-7CD63C04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04A3A-4593-43AE-A49A-ABE720CF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39CC1-031E-4871-8B48-A52CAA33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8FC91-1BF3-482A-8464-2BB7637F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2AAE4-0E57-4336-B105-22184FF5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841F-F2E0-463E-8C32-2D57482A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A4B38-7C70-45A2-935B-F28C7E39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B89-FA1E-4A61-89FE-8C1FA349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E49EA-E8EA-4A76-9005-61CE5BD3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20BE2-6662-4B7D-8A23-72BE8EDE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1D813-C99A-442F-9707-A0E1FABE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F62A1-D051-416C-877B-49C334E4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A7967-D26A-486B-8823-B4236B60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677D6-D1B9-4470-A28E-92BA8027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4D90A-366A-472C-BD33-B2935DBE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2B9A4-47CA-40F2-B459-8D77042B1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6AB53-0D94-4703-9AF3-7229F086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0A97C-80DB-4C72-9516-BB4F4DEF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2E78-46B0-4B8F-95B3-F0650D94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E5CAE-9765-40D3-ACDB-6C5AAEC6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F324A-A121-4645-A54F-512BDBDEF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B21D-4F38-42F6-AE08-62565E12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CC0B9-BD19-462D-B2B2-254F3A12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3C033-4641-43EC-A86E-124BB35F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8CB6B-F220-4C85-B4A8-EF174C24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73064-8B55-41B2-98A0-B484A60B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4E6A1-D89A-4A68-871A-F1C24E92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20A42-A4A7-4B22-99A2-56BB3829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41291-AF78-49F1-8F3A-350F6098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15D-3EC1-41D8-8BB4-855AE4CB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17452-A9E4-47D5-AA4F-0AE5E506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5B913-162E-4891-8873-4C1B2B59E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F638-62AB-4961-9476-6A1EFBE1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CD2ED-4340-4F7F-982C-5972EC5B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963DB-4A38-4EE3-AD83-07B71F5D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24CB9-E8B8-4E4F-9217-36C1E315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78F74-CD51-4C91-8668-D7E8F359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EA2403-1443-459C-917E-E2A2343F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6FC28-5DAD-4808-98C8-BEC9DF03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D7531-9B37-4D11-8FA8-73A18D7F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AB7-14F9-4398-8F0B-D1675623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291A7-06E1-4985-8C7E-4716D1C2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EDCE9-60A0-4817-AB5E-5139A880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5E3F9-3898-4F65-8301-F7F8D1E7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D4CBF-0C39-4BBD-8CCF-448653D8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7C3F1-C8D4-4F54-88A8-D06A8DF0B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51CD-126D-4FC7-BCAC-007D11F3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5279B-CE81-4923-9638-4A30F99AB6DE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9A3079-7110-4D1E-A487-4A682509228E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240E5-3660-4B81-BF01-AD1BD36B4C8A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4B6AD-F747-44CD-A1A1-8BD045EA941F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C8E9E-615D-4F8B-B123-AEA75F76C60B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FC5F7C-0380-4CD3-84CF-50C7E52724A5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ED55B-C93A-43D3-AB32-9D82D288E756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344C13-9D10-4721-AFCB-064E4BDAEF5D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6B29F-3EC6-495F-9271-7DA346EBB4E6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DB067C-A9FD-4EE8-A83D-4024885E15BD}" type="slidenum">
              <a:rPr b="0" lang="ms-MY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71C07-E0D4-42F2-AF88-0FFF147B0505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1C90F3-DD8D-42BB-9F6E-F3A210EAAB6F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B76D4E-EF66-40DD-9A02-AE0EB1FD6103}" type="datetime">
              <a:rPr b="0" lang="ms-MY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ms-MY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A0650-FC8B-45CA-9B9D-BAE9A996FB4E}" type="slidenum">
              <a:rPr b="0" lang="ms-MY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942480"/>
            <a:ext cx="7543800" cy="356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 Light"/>
              </a:rPr>
              <a:t>CASE DISCUSSION 2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825120" y="4456080"/>
            <a:ext cx="7543800" cy="17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000000"/>
                </a:solidFill>
                <a:latin typeface="Calibri Light"/>
              </a:rPr>
              <a:t>DR. SUNITA BAVANANDAN, HOSPITAL KUALA LUMPUR, K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000000"/>
                </a:solidFill>
                <a:latin typeface="Calibri Light"/>
              </a:rPr>
              <a:t>A/P DR. LIM SOO KUN, PUSAT PERUBATAN UNIVERSITI MALAYA, K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ms-MY" sz="2000" spc="-1" strike="noStrike">
                <a:solidFill>
                  <a:srgbClr val="000000"/>
                </a:solidFill>
                <a:latin typeface="Calibri Light"/>
              </a:rPr>
              <a:t>DR. ANG HOCK AUN, BAGAN SPECIALIST CENTRE, PULAU PINA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  <p:sp>
        <p:nvSpPr>
          <p:cNvPr id="314" name="Slide Number Placeholder 4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51EE6-CEC1-41CB-BD6A-47EBD8000D3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8B70F-9B9D-4A8B-ACE1-FAFC1028523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uretic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eta-blocke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Ei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B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DHP CCB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HP CCB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rect renin receptor inhibito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7BA06-1FED-4075-B46D-7F75CCBBDF5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tihypertensive agen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initial ag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dditional ag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8E22F2-ECF3-444E-94F4-815E58BD7CC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Content Placeholder 1" descr=""/>
          <p:cNvPicPr/>
          <p:nvPr/>
        </p:nvPicPr>
        <p:blipFill>
          <a:blip r:embed="rId1"/>
          <a:stretch/>
        </p:blipFill>
        <p:spPr>
          <a:xfrm>
            <a:off x="1193760" y="1862280"/>
            <a:ext cx="6834240" cy="4446360"/>
          </a:xfrm>
          <a:prstGeom prst="rect">
            <a:avLst/>
          </a:prstGeom>
          <a:ln w="0">
            <a:noFill/>
          </a:ln>
        </p:spPr>
      </p:pic>
      <p:sp>
        <p:nvSpPr>
          <p:cNvPr id="351" name="TextBox 2"/>
          <p:cNvSpPr/>
          <p:nvPr/>
        </p:nvSpPr>
        <p:spPr>
          <a:xfrm>
            <a:off x="7583400" y="2492280"/>
            <a:ext cx="1138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Lo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Irbe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Val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Telmisart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5398920" y="4597560"/>
            <a:ext cx="140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Perind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Enala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Rami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7030a0"/>
                </a:solidFill>
                <a:latin typeface="Calibri"/>
              </a:rPr>
              <a:t>Captopr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7559640" y="4057560"/>
            <a:ext cx="1120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m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Felodip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7"/>
          <p:cNvSpPr/>
          <p:nvPr/>
        </p:nvSpPr>
        <p:spPr>
          <a:xfrm>
            <a:off x="684360" y="2460600"/>
            <a:ext cx="1020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Aten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et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Bisopro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Carvedilo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8"/>
          <p:cNvSpPr/>
          <p:nvPr/>
        </p:nvSpPr>
        <p:spPr>
          <a:xfrm>
            <a:off x="642960" y="3914640"/>
            <a:ext cx="1120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P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Terazos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oxonid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Minoxid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9"/>
          <p:cNvSpPr/>
          <p:nvPr/>
        </p:nvSpPr>
        <p:spPr>
          <a:xfrm>
            <a:off x="5398920" y="1898640"/>
            <a:ext cx="14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H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Calibri"/>
              </a:rPr>
              <a:t>Indapam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32D91E-3643-4F64-9E1F-E6FC2FC3631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55640" y="287280"/>
            <a:ext cx="771048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cont.) </a:t>
            </a:r>
            <a:br>
              <a:rPr sz="4800"/>
            </a:b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Different classes of antiHP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3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24404E-E813-46A9-BDF9-DD3D14AF5E1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3" descr=""/>
          <p:cNvPicPr/>
          <p:nvPr/>
        </p:nvPicPr>
        <p:blipFill>
          <a:blip r:embed="rId1"/>
          <a:stretch/>
        </p:blipFill>
        <p:spPr>
          <a:xfrm>
            <a:off x="790560" y="1800360"/>
            <a:ext cx="7726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4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628B1-31A3-4F44-B327-BABC0EEB381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4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inuria is an independent predictor for renal disease progress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gnitude of baseline proteinuria has a linear relationship with progression of CKD &amp; risk of CV event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Ei/ARB remain as the main agents that confer significant proteinuria reduction that lead to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nts e.g. non-dihydropyridine CCBs, vitamin D analogues, pentoxifylline, etc. also have proteinuria reduction effect but do not confer significant renoprotect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F75A3C-5133-4973-BBFB-28257A5582E5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4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Additional treatment for proteinuria reductio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ietary protein restric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Good glycaemic contro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8B8AF-E111-4389-9208-DEE4278DC47D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4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1880" y="3573000"/>
            <a:ext cx="7543800" cy="2295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ietary protein restriction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uria is an independent CV risk factor and an independent predictor for renal disease progress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0720" indent="-2761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 restriction is one of the supportive measures to delay CKD progression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0B5BE-6A24-4472-9FC8-79E115B94DB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696960" y="1916280"/>
            <a:ext cx="79074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5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C1C1D2-3519-4BF2-9825-20B1ABDAF8FE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study: Diabetic CKD with albuminuria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.M. is a 56-year-old man with T2DM which was first diagnosed 3 years ago. Other medical problems include obesity and dyslipidaemia.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e denies smoking. He has no CVD and is asymptomatic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is medications: metformin 1 g BD and atorvastatin 40 mg nocte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802239-305B-4B20-8DDF-4BC5CE6E77FB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5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68000" y="3213000"/>
            <a:ext cx="8209080" cy="295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Glycaemic control for renoprotec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Optimal glycaemic control should be attained to reduce the complications of diabetes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Aggressive glycaemic control in patients with established CVD may increase the risks of hypoglycaemia and death due to impaired drug metabolism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Calibri"/>
              </a:rPr>
              <a:t>Regular blood glucose measurements are advised for more accurate assessment of diabetic control as HbA1c maybe falsely low in CKD due to anaemia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BC6E20-12F5-4C3E-9003-F4D04F71D6A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1" name="Picture 5" descr=""/>
          <p:cNvPicPr/>
          <p:nvPr/>
        </p:nvPicPr>
        <p:blipFill>
          <a:blip r:embed="rId1"/>
          <a:stretch/>
        </p:blipFill>
        <p:spPr>
          <a:xfrm>
            <a:off x="763560" y="1846440"/>
            <a:ext cx="7747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6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CDA54-1EA3-426E-ADB9-8FD7111A011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6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Few common anti-diabetes drug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odium-glucose co-transporter-2 (SGLT-2) inhibitor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otential ag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ecent trials (EMPA-REG, CANVAS/CANVAS-R) on SGLT-2 inhibitors have been shown to improve CV outcomes and may have renoprotective effect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Avoid if eGFR </a:t>
            </a:r>
            <a:r>
              <a:rPr b="0" lang="en-MY" sz="2400" spc="-1" strike="noStrike">
                <a:solidFill>
                  <a:srgbClr val="ff0000"/>
                </a:solidFill>
                <a:latin typeface="Calibri"/>
              </a:rPr>
              <a:t>&lt;45 ml/min </a:t>
            </a: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due to reduced efficacy in lowering HbA1c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B1A426-21A9-42B4-90E2-6C19ED8432E8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6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Metformin - avoid if eGFR &lt;30 ml/mi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Dipeptidyl peptidase-4 (DPP-4) inhibitors - dose reduction in CKD for sitagliptin, vildagliptin, saxagliptin. No dose adjustment for linagliptin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ulphonylureas - gliclazide, avoid long-acting glibenclamid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Insulin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74600" indent="-174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66AED8-7A5D-4F77-A924-15534000E7D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189000"/>
            <a:ext cx="78105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Calibri Light"/>
              </a:rPr>
              <a:t>Answer 6 (cont.) - Suggested Treatment Approach for Specific Patient Profiles (Malaysian CPG on T2DM 2016)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C02A1-A609-41E5-885B-E7B88499D9B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722160" y="1125360"/>
            <a:ext cx="7810560" cy="53899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: Rounded Corners 9"/>
          <p:cNvSpPr/>
          <p:nvPr/>
        </p:nvSpPr>
        <p:spPr>
          <a:xfrm>
            <a:off x="6837480" y="1125360"/>
            <a:ext cx="1550880" cy="4032360"/>
          </a:xfrm>
          <a:custGeom>
            <a:avLst/>
            <a:gdLst>
              <a:gd name="textAreaLeft" fmla="*/ 75600 w 1550880"/>
              <a:gd name="textAreaRight" fmla="*/ 1475280 w 1550880"/>
              <a:gd name="textAreaTop" fmla="*/ 75600 h 4032360"/>
              <a:gd name="textAreaBottom" fmla="*/ 3956760 h 4032360"/>
            </a:gdLst>
            <a:ahLst/>
            <a:rect l="textAreaLeft" t="textAreaTop" r="textAreaRight" b="textAreaBottom"/>
            <a:pathLst>
              <a:path w="21600" h="56153">
                <a:moveTo>
                  <a:pt x="3600" y="0"/>
                </a:moveTo>
                <a:arcTo wR="3600" hR="3600" stAng="16200000" swAng="-5400000"/>
                <a:lnTo>
                  <a:pt x="0" y="52553"/>
                </a:lnTo>
                <a:arcTo wR="3600" hR="3600" stAng="10800000" swAng="-5400000"/>
                <a:lnTo>
                  <a:pt x="18000" y="561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7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731902-94D7-4E9F-9EDB-360BF65AFBF1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7 - Reduction of CV risk in CK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69A355-2B89-40F7-B58C-907D12865660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7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82080" cy="12952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8" descr=""/>
          <p:cNvPicPr/>
          <p:nvPr/>
        </p:nvPicPr>
        <p:blipFill>
          <a:blip r:embed="rId2"/>
          <a:stretch/>
        </p:blipFill>
        <p:spPr>
          <a:xfrm>
            <a:off x="539640" y="3772080"/>
            <a:ext cx="818208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8000" spc="-1" strike="noStrike">
                <a:solidFill>
                  <a:srgbClr val="000000"/>
                </a:solidFill>
                <a:latin typeface="Calibri Light"/>
              </a:rPr>
              <a:t>Thank you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769C2-4985-41F1-B432-16772DBC73E4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7596360" y="27000"/>
            <a:ext cx="15127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Case study: Diabetic CKD with albuminuria</a:t>
            </a:r>
            <a:r>
              <a:rPr b="1" lang="en-MY" sz="2000" spc="-1" strike="noStrike">
                <a:solidFill>
                  <a:srgbClr val="000000"/>
                </a:solidFill>
                <a:latin typeface="Calibri Light"/>
              </a:rPr>
              <a:t>-2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822240" y="1712880"/>
            <a:ext cx="77104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Physical examination reveals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eight 167 cm, weight 79 kg, BMI of 28.3 kg/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BP 160/100 mmHg and a regular heart rate of 76/mi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no retinopathy or neuropath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Laboratory tests reveal: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proteinuria on urinalysi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serum creatinine 104 µmol/L and eGFR 64 mL/min/1.73m</a:t>
            </a:r>
            <a:r>
              <a:rPr b="0" lang="en-MY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normal electrolyt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random blood glucose 10 mmol/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HbA1c 8.8%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46040" indent="-27324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400" spc="-1" strike="noStrike">
                <a:solidFill>
                  <a:srgbClr val="000000"/>
                </a:solidFill>
                <a:latin typeface="Calibri"/>
              </a:rPr>
              <a:t>urine albumin-creatinine-ratio 56 mg/mmo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72800" indent="-172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195A9A-7575-4FF8-8E14-F995647D0029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000000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C6254-AFEE-42B6-A687-72539B28B956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826920" y="1773360"/>
            <a:ext cx="768384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0213E6-6943-4673-9E8A-9EECE3A202B3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A8518-4F2F-42F0-AA43-4869BBC2ACB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5" descr=""/>
          <p:cNvPicPr/>
          <p:nvPr/>
        </p:nvPicPr>
        <p:blipFill>
          <a:blip r:embed="rId1"/>
          <a:stretch/>
        </p:blipFill>
        <p:spPr>
          <a:xfrm>
            <a:off x="955800" y="1844640"/>
            <a:ext cx="723240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1 (cont.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A569BD-744C-4DAD-BD2D-CA70BBAE5B5F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955800" y="1844640"/>
            <a:ext cx="7232400" cy="46544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: Rounded Corners 1"/>
          <p:cNvSpPr/>
          <p:nvPr/>
        </p:nvSpPr>
        <p:spPr>
          <a:xfrm>
            <a:off x="6835680" y="2755800"/>
            <a:ext cx="1239840" cy="2016360"/>
          </a:xfrm>
          <a:custGeom>
            <a:avLst/>
            <a:gdLst>
              <a:gd name="textAreaLeft" fmla="*/ 60480 w 1239840"/>
              <a:gd name="textAreaRight" fmla="*/ 1179360 w 1239840"/>
              <a:gd name="textAreaTop" fmla="*/ 60480 h 2016360"/>
              <a:gd name="textAreaBottom" fmla="*/ 1955880 h 2016360"/>
            </a:gdLst>
            <a:ahLst/>
            <a:rect l="textAreaLeft" t="textAreaTop" r="textAreaRight" b="textAreaBottom"/>
            <a:pathLst>
              <a:path w="21600" h="35124">
                <a:moveTo>
                  <a:pt x="3600" y="0"/>
                </a:moveTo>
                <a:arcTo wR="3600" hR="3600" stAng="16200000" swAng="-5400000"/>
                <a:lnTo>
                  <a:pt x="0" y="31524"/>
                </a:lnTo>
                <a:arcTo wR="3600" hR="3600" stAng="10800000" swAng="-5400000"/>
                <a:lnTo>
                  <a:pt x="18000" y="351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: Rounded Corners 2"/>
          <p:cNvSpPr/>
          <p:nvPr/>
        </p:nvSpPr>
        <p:spPr>
          <a:xfrm>
            <a:off x="2124000" y="4843440"/>
            <a:ext cx="295272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000000"/>
                </a:solidFill>
                <a:latin typeface="Calibri Light"/>
              </a:rPr>
              <a:t>Question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821880" y="1773360"/>
            <a:ext cx="7543800" cy="4613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a1abd0"/>
                </a:solidFill>
                <a:latin typeface="Calibri"/>
              </a:rPr>
              <a:t>What is this patient’s renal status and prognosis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2800" spc="-1" strike="noStrike">
                <a:solidFill>
                  <a:srgbClr val="000000"/>
                </a:solidFill>
                <a:latin typeface="Calibri"/>
              </a:rPr>
              <a:t>What is the BP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best drug to lower his blood pressure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is albuminuria be reduced with additional treatm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What is the HbA1c target in this patient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How would you optimise his glycaemic control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2800" spc="-1" strike="noStrike">
                <a:solidFill>
                  <a:srgbClr val="96a9ba"/>
                </a:solidFill>
                <a:latin typeface="Calibri"/>
              </a:rPr>
              <a:t>Should he be on aspirin?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363600" indent="-3636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CAD2F-BEE5-48D4-B02A-132A301C85AC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MY" sz="4800" spc="-1" strike="noStrike">
                <a:solidFill>
                  <a:srgbClr val="ff0000"/>
                </a:solidFill>
                <a:latin typeface="Calibri Light"/>
              </a:rPr>
              <a:t>Answer 2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Slide Number Placeholder 2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0DB4A-6F1C-4EC1-9EB8-4F3899CEBFA2}" type="slidenum">
              <a:rPr b="0" lang="ms-MY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7" descr=""/>
          <p:cNvPicPr/>
          <p:nvPr/>
        </p:nvPicPr>
        <p:blipFill>
          <a:blip r:embed="rId1"/>
          <a:stretch/>
        </p:blipFill>
        <p:spPr>
          <a:xfrm>
            <a:off x="822240" y="1800360"/>
            <a:ext cx="76374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4T09:53:13Z</dcterms:created>
  <dc:creator>user</dc:creator>
  <dc:description/>
  <dc:language>en-US</dc:language>
  <cp:lastModifiedBy>Dr. Mohd. Aminuddin</cp:lastModifiedBy>
  <dcterms:modified xsi:type="dcterms:W3CDTF">2019-05-02T07:09:26Z</dcterms:modified>
  <cp:revision>150</cp:revision>
  <dc:subject/>
  <dc:title>SCREENING &amp; DIAGNOSIS</dc:title>
</cp:coreProperties>
</file>